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9C557-C109-46BE-89DD-B616CEB2DB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893EA-5E2E-49CB-AC65-AF3899F937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5951B-3F3F-44BB-BED4-85135EDCB8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1CFE-DE73-4BB0-BAD9-4B04635A71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69D13F-D252-43DF-8AE7-1BAFF42D2F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48B93-8E2E-4A44-B6BE-AF53D4998B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CD414-44A9-40F9-8B0D-82C7A0FF77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BB99B-DFF9-4684-9C7E-9FC92CF46CA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53ADEB-0217-4FE7-A08C-202BACA305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571B8B-F161-4BEE-8139-488C2EDCE97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C8EAAB-697C-49C0-9C3A-CB0A9A45B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6641210-BB08-48F4-93BD-B133D5D40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044DB9-9A4D-481D-A5F4-169C4CE24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9A08C1-E565-47D7-800A-5A0A61891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0316CE6-2978-492A-9099-7E2298ABF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E20C8B-274D-4EF2-80B9-0B9C53716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4BCF3EF-397B-4D92-B808-78AE15D3D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A75E6C-2676-46B5-878F-6E8767DEB0F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155DF07-677F-431A-8B62-A9B9E4DC7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9EFAD8-F341-410F-ADCE-A57CBA652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C68758-49ED-43A3-AFF9-7D1BFF9B0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199ACE-80D5-47ED-A213-0E0A650BC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41B43D-A628-456A-A78B-545643F30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F90C51-BE74-47D1-9A49-16B975DD2A1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34EE13-8238-4541-90EF-BCE342C75E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E7D135-FAA0-48A0-973A-A9D90E771E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96BE-6463-41DE-BC18-01C7DC9086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AA0AB1-C633-43C5-A89E-312B66FB0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50023A-820C-439A-92AB-143E20D60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1802A0-604C-4D9B-A54D-9C0F83BAA9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0EF69-A129-4844-877D-F393D7B1008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263425-1D86-4A57-892B-064A11E3B4E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Scenario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 large reference laboratory asked for urgent reagent assistance, mainly related to diarrhoeal diseases. Requested reagents were s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External Laboratory Assessment Find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uring a follow-up mission in the program, the laboratory “stockroom” was visited. Faced with the enormous stock observed, an inventory was carried out during the mis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968C56-03C2-492F-8E72-21BDDD35B6D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7d"/>
                </a:solidFill>
                <a:latin typeface="Verdana"/>
              </a:rPr>
              <a:t>Case Study: Impact of not having an inventory progr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5364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Find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inventory had not been done for several year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No one knew what was available in the stock roo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 urgently requested reagents were present, half of which were still usable, the other half had expir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Outco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ncreased reagent cost, time spent by the laboratory to contact donors, time spent by donor’s office to order the reag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oss of funds and time, roughly 3-week delay, analyses stopped meanwhile in the count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F85638-DBCD-470C-BD3E-D0F182908C7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Object 2"/>
          <p:cNvGraphicFramePr/>
          <p:nvPr/>
        </p:nvGraphicFramePr>
        <p:xfrm>
          <a:off x="5118120" y="1758960"/>
          <a:ext cx="4025880" cy="4510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8120" y="1758960"/>
                    <a:ext cx="4025880" cy="451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17" name="Group 3"/>
          <p:cNvGrpSpPr/>
          <p:nvPr/>
        </p:nvGrpSpPr>
        <p:grpSpPr>
          <a:xfrm>
            <a:off x="152280" y="533520"/>
            <a:ext cx="8842320" cy="5905440"/>
            <a:chOff x="152280" y="533520"/>
            <a:chExt cx="8842320" cy="5905440"/>
          </a:xfrm>
        </p:grpSpPr>
        <p:pic>
          <p:nvPicPr>
            <p:cNvPr id="118" name="Picture 4" descr=""/>
            <p:cNvPicPr/>
            <p:nvPr/>
          </p:nvPicPr>
          <p:blipFill>
            <a:blip r:embed="rId3"/>
            <a:stretch/>
          </p:blipFill>
          <p:spPr>
            <a:xfrm>
              <a:off x="152280" y="533520"/>
              <a:ext cx="884232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Rectangle 5"/>
            <p:cNvSpPr/>
            <p:nvPr/>
          </p:nvSpPr>
          <p:spPr>
            <a:xfrm>
              <a:off x="8381880" y="6286680"/>
              <a:ext cx="533520" cy="152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6"/>
            <p:cNvSpPr/>
            <p:nvPr/>
          </p:nvSpPr>
          <p:spPr>
            <a:xfrm>
              <a:off x="8153280" y="6299280"/>
              <a:ext cx="812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152280" y="25909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2280" y="28954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2280" y="3352680"/>
            <a:ext cx="1143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280" y="32767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280" y="35812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280" y="39625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2280" y="42670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4648320"/>
            <a:ext cx="106704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52280" y="49528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52280" y="5334120"/>
            <a:ext cx="11430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52280" y="5638680"/>
            <a:ext cx="1143000" cy="55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20040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228240" y="38862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151920" y="45720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228240" y="52578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151920" y="5943600"/>
            <a:ext cx="1143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295280" y="2514600"/>
            <a:ext cx="0" cy="38098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1295280"/>
            <a:ext cx="121932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A8A5EE-27CA-4600-B6CE-3380569BC3A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87200" y="990720"/>
            <a:ext cx="8823600" cy="4714920"/>
          </a:xfrm>
          <a:prstGeom prst="rect">
            <a:avLst/>
          </a:prstGeom>
          <a:ln w="0">
            <a:noFill/>
          </a:ln>
        </p:spPr>
      </p:pic>
      <p:sp>
        <p:nvSpPr>
          <p:cNvPr id="140" name="Rectangle 3"/>
          <p:cNvSpPr/>
          <p:nvPr/>
        </p:nvSpPr>
        <p:spPr>
          <a:xfrm>
            <a:off x="8305920" y="6381720"/>
            <a:ext cx="533160" cy="247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4400" y="1295280"/>
            <a:ext cx="1371600" cy="276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st Rid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A55F-A934-4DFF-999B-2363CC636AF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551520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360" y="3580920"/>
            <a:ext cx="7086600" cy="17528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000000"/>
                </a:solidFill>
                <a:latin typeface="Verdana"/>
              </a:rPr>
              <a:t>Example of a specialized program:Soflab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&amp; Inventory - 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D8CE3-8849-46CC-8257-4B27664BB96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3T20:57:34Z</dcterms:created>
  <dc:creator>Robin Barteluk</dc:creator>
  <dc:description/>
  <dc:language>en-US</dc:language>
  <cp:lastModifiedBy>Robin Barteluk</cp:lastModifiedBy>
  <dcterms:modified xsi:type="dcterms:W3CDTF">2008-11-22T05:50:09Z</dcterms:modified>
  <cp:revision>9</cp:revision>
  <dc:subject/>
  <dc:title>Discussion: The Problem</dc:title>
</cp:coreProperties>
</file>